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gif" ContentType="image/gif"/>
  <Override PartName="/ppt/media/image17.png" ContentType="image/pn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B790-3B95-4BCB-9483-1830BDE12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www-raider.stjohns.k12.fl.us/sciencevocab/sv16.html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hyperlink" Target="http://www.clf.org/lakekeeper/take_action.htm" TargetMode="External"/><Relationship Id="rId2" Type="http://schemas.openxmlformats.org/officeDocument/2006/relationships/hyperlink" Target="http://www.clf.org/lakekeeper/take_action.htm" TargetMode="External"/><Relationship Id="rId3" Type="http://schemas.openxmlformats.org/officeDocument/2006/relationships/hyperlink" Target="http://www.clf.org/lakekeeper/take_action.htm" TargetMode="External"/><Relationship Id="rId4" Type="http://schemas.openxmlformats.org/officeDocument/2006/relationships/slide" Target="../slides/slide41.xml"/><Relationship Id="rId5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-raider.stjohns.k12.fl.us/.../ sv16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cellsalive.com/ecoli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cellsalive.com/cam2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ooklyn.cuny.edu/bc/ahp/MBG/MBG3/CB.Binaryfissio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ctmnet.gov.om/committee/BACTERIA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ecialedprep.net/MSAT%20SCIENCE/KingdomMoner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lf.org/lakekeeper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/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ke_action.ht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g.cox.miami.edu/Faculty/Dana/moner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nniskunkel.com/PublicHtml/Edu-SearchResults.asp?Category=&amp;ImageNumber=&amp;Keyword3=&amp;Keyword2=&amp;Keyword1=bacteria&amp;offset=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ast-buc.k12.ia.us/Ins/00-01/HS/le1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22E-66F3-45A8-892E-4CEDF566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6A1-CCA9-4214-9964-85BAD31C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8A6-C0DD-4AEC-89BD-513363FA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783-9E7E-42A9-99AD-4A1D958B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B94-A431-4145-9C41-3BCCDA6E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647-08D0-4F36-A9C3-987EA72D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D17-91B5-4588-B788-2E89B7D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F40-5CD3-497F-9FBB-F9C988F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B67-95B7-48DC-9E78-D1AA3F2F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9E5-6AC0-4CB6-893D-B93752CA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2FE-1AA6-4456-A3CC-BB88B5A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E45-9F42-4C6E-8FB2-55587D76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D120-8B0E-47D3-BB46-DF65460F0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hybridmedicalanimation.com/pages/jjani_qt/ecoli_qt.html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cellsalive.com/cam2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hyperlink" Target="http://www.clf.org/gifs/BlueGreen-Algae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f.org/gifs/BlueGreen-Algae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1667" t="4443" r="9166" b="44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611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9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7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52280"/>
            <a:ext cx="30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THE FIVE KINGD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952880"/>
            <a:ext cx="3276720" cy="1752840"/>
          </a:xfrm>
          <a:prstGeom prst="ellipse">
            <a:avLst/>
          </a:prstGeom>
          <a:noFill/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0E8-55B0-4EFF-A0D4-10A966DBD1CA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Nucle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1337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ring made up of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752480"/>
            <a:ext cx="4572000" cy="152424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776-2CAB-4200-AA0E-AC28DCCC705A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68580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1337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whip-like tail that some bacteria have for loc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828800"/>
            <a:ext cx="4648320" cy="41148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" y="25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250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6C2-03FD-4FD3-A079-807030050512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nimbug1" descr=""/>
          <p:cNvPicPr/>
          <p:nvPr/>
        </p:nvPicPr>
        <p:blipFill>
          <a:blip r:embed="rId2"/>
          <a:stretch/>
        </p:blipFill>
        <p:spPr>
          <a:xfrm>
            <a:off x="1716120" y="34290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122" name="animbug2" descr=""/>
          <p:cNvPicPr/>
          <p:nvPr/>
        </p:nvPicPr>
        <p:blipFill>
          <a:blip r:embed="rId3"/>
          <a:stretch/>
        </p:blipFill>
        <p:spPr>
          <a:xfrm>
            <a:off x="5450040" y="3440160"/>
            <a:ext cx="1760400" cy="181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371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mimation of E.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/>
          </p:cNvPr>
          <p:cNvSpPr/>
          <p:nvPr/>
        </p:nvSpPr>
        <p:spPr>
          <a:xfrm>
            <a:off x="8077320" y="56386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8411" y="7301"/>
                </a:moveTo>
                <a:lnTo>
                  <a:pt x="9325" y="7301"/>
                </a:lnTo>
                <a:lnTo>
                  <a:pt x="9707" y="7667"/>
                </a:lnTo>
                <a:lnTo>
                  <a:pt x="18916" y="7667"/>
                </a:lnTo>
                <a:lnTo>
                  <a:pt x="19473" y="8224"/>
                </a:lnTo>
                <a:lnTo>
                  <a:pt x="19473" y="8772"/>
                </a:lnTo>
                <a:lnTo>
                  <a:pt x="21318" y="8772"/>
                </a:lnTo>
                <a:lnTo>
                  <a:pt x="21684" y="8224"/>
                </a:lnTo>
                <a:lnTo>
                  <a:pt x="22424" y="8224"/>
                </a:lnTo>
                <a:lnTo>
                  <a:pt x="22424" y="13376"/>
                </a:lnTo>
                <a:lnTo>
                  <a:pt x="21684" y="13376"/>
                </a:lnTo>
                <a:lnTo>
                  <a:pt x="21318" y="12828"/>
                </a:lnTo>
                <a:lnTo>
                  <a:pt x="19473" y="12828"/>
                </a:lnTo>
                <a:lnTo>
                  <a:pt x="19473" y="14107"/>
                </a:lnTo>
                <a:lnTo>
                  <a:pt x="9890" y="14107"/>
                </a:lnTo>
                <a:lnTo>
                  <a:pt x="9890" y="9877"/>
                </a:lnTo>
                <a:lnTo>
                  <a:pt x="9707" y="9877"/>
                </a:lnTo>
                <a:lnTo>
                  <a:pt x="9325" y="10243"/>
                </a:lnTo>
                <a:lnTo>
                  <a:pt x="8411" y="1024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2E7-E78B-4BA7-AD0E-49C82FB32651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52280" y="914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Pil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739880"/>
            <a:ext cx="3657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hollow hair-like structures made of prote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allows bacteria to attach to other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illi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-</a:t>
            </a:r>
            <a:r>
              <a:rPr b="1" i="1" lang="en-US" sz="3200" spc="-1" strike="noStrike">
                <a:solidFill>
                  <a:srgbClr val="cc00cc"/>
                </a:solidFill>
                <a:latin typeface="Comic Sans MS"/>
              </a:rPr>
              <a:t>singular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illus</a:t>
            </a: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-</a:t>
            </a:r>
            <a:r>
              <a:rPr b="1" i="1" lang="en-US" sz="3200" spc="-1" strike="noStrike">
                <a:solidFill>
                  <a:srgbClr val="cc00cc"/>
                </a:solidFill>
                <a:latin typeface="Comic Sans MS"/>
              </a:rPr>
              <a:t>pl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143000"/>
            <a:ext cx="4267080" cy="30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143000"/>
            <a:ext cx="3581280" cy="6858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63E-A7B3-4A26-B35F-073918A647B4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20968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lear jelly-like material that makes up mos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3505320" cy="30456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oval" w="med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AFB-18C0-41A1-A79F-8E1AD3574E7E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730080"/>
            <a:ext cx="89917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Binary Fission-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cc00cc"/>
                </a:solidFill>
                <a:latin typeface="Comic Sans MS"/>
                <a:ea typeface="Times New Roman"/>
              </a:rPr>
              <a:t>the process of one organism dividing into two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ssion is a type of asexual reprodu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0"/>
            <a:ext cx="5181840" cy="106884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roduction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353040" cy="2511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4024440"/>
            <a:ext cx="5029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?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ne main (circular) chromosome makes a copy of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it divides into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66688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Asexual reproduction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reproduction of a living thing from only on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AAB-614D-425F-9D38-B0FA1050E608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7632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NARY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505320" cy="2895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52578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teria divi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40920" y="5241960"/>
            <a:ext cx="24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0"/>
            <a:ext cx="5181840" cy="106884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roduction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4"/>
          </p:cNvPr>
          <p:cNvSpPr/>
          <p:nvPr/>
        </p:nvSpPr>
        <p:spPr>
          <a:xfrm>
            <a:off x="845820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301"/>
                </a:moveTo>
                <a:lnTo>
                  <a:pt x="9017" y="7301"/>
                </a:lnTo>
                <a:lnTo>
                  <a:pt x="9400" y="7667"/>
                </a:lnTo>
                <a:lnTo>
                  <a:pt x="18609" y="7667"/>
                </a:lnTo>
                <a:lnTo>
                  <a:pt x="19166" y="8224"/>
                </a:lnTo>
                <a:lnTo>
                  <a:pt x="19166" y="8772"/>
                </a:lnTo>
                <a:lnTo>
                  <a:pt x="21011" y="8772"/>
                </a:lnTo>
                <a:lnTo>
                  <a:pt x="21376" y="8224"/>
                </a:lnTo>
                <a:lnTo>
                  <a:pt x="22116" y="8224"/>
                </a:lnTo>
                <a:lnTo>
                  <a:pt x="22116" y="13376"/>
                </a:lnTo>
                <a:lnTo>
                  <a:pt x="21376" y="13376"/>
                </a:lnTo>
                <a:lnTo>
                  <a:pt x="21011" y="12828"/>
                </a:lnTo>
                <a:lnTo>
                  <a:pt x="19166" y="12828"/>
                </a:lnTo>
                <a:lnTo>
                  <a:pt x="19166" y="14107"/>
                </a:lnTo>
                <a:lnTo>
                  <a:pt x="9583" y="14107"/>
                </a:lnTo>
                <a:lnTo>
                  <a:pt x="9583" y="9877"/>
                </a:lnTo>
                <a:lnTo>
                  <a:pt x="9400" y="9877"/>
                </a:lnTo>
                <a:lnTo>
                  <a:pt x="9017" y="10243"/>
                </a:lnTo>
                <a:lnTo>
                  <a:pt x="8103" y="1024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ACE-96F3-4B4F-90F7-D142EC4A413C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1130400"/>
            <a:ext cx="914400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time of reproduction depends on how desirable the condition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Bacteria can rapidly reproduce themselves in warm, dark, and moist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me can reproduce every 20 min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one bacteria could be an ancestor to 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one million bacteria in six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0"/>
            <a:ext cx="5181840" cy="106884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roduction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A0D-8B1F-460C-8894-D9D8AB201662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238608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91440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9320" y="228600"/>
            <a:ext cx="5790960" cy="6629400"/>
            <a:chOff x="1219320" y="228600"/>
            <a:chExt cx="5790960" cy="662940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rcRect l="0" t="15854" r="0" b="0"/>
            <a:stretch/>
          </p:blipFill>
          <p:spPr>
            <a:xfrm>
              <a:off x="1219320" y="228600"/>
              <a:ext cx="573696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038480" y="1447920"/>
              <a:ext cx="2286000" cy="83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4800600"/>
              <a:ext cx="228600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228600"/>
              <a:ext cx="2286000" cy="990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2438280"/>
              <a:ext cx="2895840" cy="838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038480" y="228600"/>
            <a:ext cx="4038840" cy="1068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terial Cell &amp; Nucleiod DNA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600200"/>
            <a:ext cx="342900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2590920"/>
            <a:ext cx="373392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wall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500220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 rot="5400000">
            <a:off x="-2243160" y="2624040"/>
            <a:ext cx="6019920" cy="107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Binary Fission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699-8974-49C8-B9DD-F9B91C46FDD5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3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acteria Surviv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685800"/>
            <a:ext cx="899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ospore-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thick celled structure that forms in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3162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are the major cause of food pois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36273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y can withstand boiling, freezing, and  extremely dry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522756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it encloses all the     nuclear mate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and some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0020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allows the bacteria to survive for many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9D9-3470-44AF-80BE-1BC92C3A91CF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92400" y="27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8612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76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troduction to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838080"/>
            <a:ext cx="8915400" cy="43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 TYPES OF BAC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-Get food from an outside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lue-green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Make their own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3505320"/>
            <a:ext cx="2819520" cy="277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D13-C0B8-4C33-8991-6645AD9770E6}" type="slidenum">
              <a:t>2</a:t>
            </a:fld>
          </a:p>
        </p:txBody>
      </p:sp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345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acillus subti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Endospore-the black section in the midd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Bacillus subtilis"/>
          <p:cNvPicPr/>
          <p:nvPr/>
        </p:nvPicPr>
        <p:blipFill>
          <a:blip r:embed="rId2"/>
          <a:stretch/>
        </p:blipFill>
        <p:spPr>
          <a:xfrm>
            <a:off x="2819520" y="990720"/>
            <a:ext cx="3657600" cy="2422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143000" y="483084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y resistant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withstand radiation, UV light, and boiling at 120oC for 15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3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acteria Surviv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119-15A0-4973-B046-36FD9055744D}" type="slidenum">
              <a:t>20</a:t>
            </a:fld>
          </a:p>
        </p:txBody>
      </p: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76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Bacteria Survival – Food sourc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685800"/>
            <a:ext cx="899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parasite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cteria that feed on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sap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 dead materials for food (exclusive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decomposers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t food from breaking down dead matter into simpl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- because they send minerals and other materials back into the soil so other organisms can us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6CF-176C-4F38-B404-BACF272FF288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685800"/>
            <a:ext cx="899136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bacteria caus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 can pass diseases to hu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Comic Sans MS"/>
              </a:rPr>
              <a:t>Communicable Disease –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isease passed from one organism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This can happen in several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ir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ouching clothing, food, silverware, or toothbrus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rinking water that contains bacter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165320" cy="1292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696080" y="3733920"/>
            <a:ext cx="903240" cy="129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83E-DE2A-4961-AAAE-3F4D55F890F0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76320" y="5074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uman tooth with accumulation of bacterial plaque (smooth areas) and calcified tartar (rough ar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0" r="0" b="16082"/>
          <a:stretch/>
        </p:blipFill>
        <p:spPr>
          <a:xfrm>
            <a:off x="2247840" y="1447920"/>
            <a:ext cx="4762440" cy="31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2590920" y="25884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A93-6844-44DC-B2BE-8D1661D424E1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76320"/>
            <a:ext cx="35812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685800"/>
            <a:ext cx="899136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ecomposers help recycle nutrients into the soil for other organism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acteria grow in the stomach of a cow to break down grass and h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Most are used to make 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ome bacteria help make 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ed to make industrial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2751120"/>
            <a:ext cx="2057400" cy="1515960"/>
          </a:xfrm>
          <a:prstGeom prst="rect">
            <a:avLst/>
          </a:prstGeom>
          <a:ln w="69840">
            <a:solidFill>
              <a:srgbClr val="33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41A-B66D-4377-B071-1A9DB2AE2B3E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"/>
          <a:srcRect l="0" t="0" r="0" b="16923"/>
          <a:stretch/>
        </p:blipFill>
        <p:spPr>
          <a:xfrm>
            <a:off x="1397160" y="1447920"/>
            <a:ext cx="6349680" cy="422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2133720" y="5943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small intes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258840"/>
            <a:ext cx="350532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D42-F072-486B-9B88-049E8BAF49DF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685800"/>
            <a:ext cx="91440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Used to treat sew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ganic waste is consumed by the bacteria, used as nutrients by the bacteria, and is no longer present to produce odors, sludge, pollution, or unsightly m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foods like yogurt, cottage &amp; Swiss cheese, sour cream, buttermilk are made from bacteria that grows in 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791320" y="4800600"/>
            <a:ext cx="2286000" cy="1830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524640" y="304920"/>
            <a:ext cx="2390760" cy="981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438280" y="76320"/>
            <a:ext cx="358164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537-624F-4229-9827-74A408009857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90920" y="106200"/>
            <a:ext cx="441936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76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 ways to control bac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5238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1)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nning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the process of sealing food in airtight cans or jars after ki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26208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ospores are killed during thi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3429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2)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steurization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process of heating milk to kill harm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)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ehydration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removing water from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364000"/>
            <a:ext cx="82296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teria can’t grow when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is remov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5973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uncooked noodles &amp; cold ce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BF7-FD16-4DE4-A00B-1D2F75F384DB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52480" y="106200"/>
            <a:ext cx="5791320" cy="106884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mic Sans MS"/>
              </a:rPr>
              <a:t>Antiseptic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vs.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Disinfec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371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Comic Sans MS"/>
              </a:rPr>
              <a:t>Antiseptic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emicals that kill bacteria on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4685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ns – “against infec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3124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odine, hydrogen peroxide, alcohol, soap, mouthw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3894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Disinfectants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ronger chemicals that destroy bacteria on objects or non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543800" y="4648320"/>
            <a:ext cx="1390680" cy="2009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829480" y="5362560"/>
            <a:ext cx="1485720" cy="1343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238880" y="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098-2A1E-4F2E-8627-2CE7FB7B0F5F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71600" y="152280"/>
            <a:ext cx="64771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990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utotroph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  </a:t>
            </a:r>
            <a:r>
              <a:rPr b="0" lang="en-US" sz="3600" spc="-1" strike="noStrike">
                <a:solidFill>
                  <a:srgbClr val="cc00cc"/>
                </a:solidFill>
                <a:latin typeface="Comic Sans MS"/>
                <a:ea typeface="Times New Roman"/>
              </a:rPr>
              <a:t>make their own food through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2955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mmonly grow on water and surfaces that stay wet…such as rivers, creeks and d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7960" y="2361240"/>
            <a:ext cx="65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than most bacterial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4949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live in salt water, snow, and acid water of hot spr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57139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food source for animals that live in the w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0EA-6500-436E-9502-DF9C7F13F6B5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90920" y="763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02060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Bacteria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mall one celled moner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Bacteria like a warm, dark, and moist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y are found almost every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water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air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soil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food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skin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inside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-on most objec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06720" y="3733920"/>
            <a:ext cx="2022480" cy="2022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2971800"/>
            <a:ext cx="8229600" cy="35053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926-6CAB-4133-A1C8-AC81D1E9DCDF}" type="slidenum">
              <a:t>3</a:t>
            </a:fld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994760" y="152280"/>
            <a:ext cx="63147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14956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loom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 when the bacteria multiplies in great numbers and form scum on the top of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Picture "/>
          <p:cNvPicPr/>
          <p:nvPr/>
        </p:nvPicPr>
        <p:blipFill>
          <a:blip r:embed="rId2"/>
          <a:srcRect l="0" t="16739" r="0" b="0"/>
          <a:stretch/>
        </p:blipFill>
        <p:spPr>
          <a:xfrm>
            <a:off x="169920" y="2517840"/>
            <a:ext cx="3259080" cy="403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838080" y="1249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an be </a:t>
            </a:r>
            <a:r>
              <a:rPr b="0" i="1" lang="en-US" sz="3200" spc="-1" strike="noStrike">
                <a:solidFill>
                  <a:srgbClr val="cc00cc"/>
                </a:solidFill>
                <a:latin typeface="Comic Sans MS"/>
              </a:rPr>
              <a:t>toxic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to humans an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4572000"/>
            <a:ext cx="3429000" cy="1978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019-5C56-4E4D-A1D8-68255C132C54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 txBox="1"/>
          <p:nvPr/>
        </p:nvSpPr>
        <p:spPr>
          <a:xfrm>
            <a:off x="1219320" y="838080"/>
            <a:ext cx="624816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61A-83FE-4328-9C3D-FBFB682F42B5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3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acteria Surviv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320" y="685800"/>
            <a:ext cx="899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dospore-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a thick celled structure that forms in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closes all the nuclear materi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ome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They can withstand boiling, freezing, and extremely dry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s the bacteria to survive for many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A7D-0160-4E62-A727-23DB7C589697}" type="slidenum">
              <a:t>32</a:t>
            </a:fld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76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Bacteria Survival – Food sourc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685800"/>
            <a:ext cx="8991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parasites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cteria that feed on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saprophy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 dead materials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decomposers 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et food from breaking down dead matter into simpl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- because they send minerals and other materials back into the soil so other organisms can us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CDD-53A7-4CB4-B9C5-5FEF2E4B6F6D}" type="slidenum">
              <a:t>33</a:t>
            </a:fld>
          </a:p>
        </p:txBody>
      </p:sp>
    </p:spTree>
  </p:cSld>
  <p:transition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632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685800"/>
            <a:ext cx="899136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bacteria cause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mals can pass diseases to hu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Comic Sans MS"/>
              </a:rPr>
              <a:t>Communicable Disease –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isease passed from one organism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This can happen in several way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ir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ouching clothing, food, silverware, or toothbrus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rinking water that contains bacteri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165320" cy="1292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696080" y="3733920"/>
            <a:ext cx="903240" cy="129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B2D-7C82-4975-B5DF-77CDE982F12F}" type="slidenum">
              <a:t>34</a:t>
            </a:fld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76320" y="5074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uman tooth with accumulation of bacterial plaque (smooth areas) and calcified tartar (rough ar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rcRect l="0" t="0" r="0" b="16082"/>
          <a:stretch/>
        </p:blipFill>
        <p:spPr>
          <a:xfrm>
            <a:off x="2247840" y="1447920"/>
            <a:ext cx="4762440" cy="31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590920" y="258840"/>
            <a:ext cx="42670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armful Bacteri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1EC-A3C4-4BBC-A991-3EA736FA1D9D}" type="slidenum">
              <a:t>35</a:t>
            </a:fld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019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76320"/>
            <a:ext cx="358128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685800"/>
            <a:ext cx="899136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Decomposers help recycle nutrients into the soil for other organisms to 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Bacteria grow in the stomach of a cow to break down grass and h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omic Sans MS"/>
              </a:rPr>
              <a:t>Most are sued to make 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ome bacteria help make 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ed to make industrial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934320" y="2751120"/>
            <a:ext cx="2057400" cy="1515960"/>
          </a:xfrm>
          <a:prstGeom prst="rect">
            <a:avLst/>
          </a:prstGeom>
          <a:ln w="69840">
            <a:solidFill>
              <a:srgbClr val="3366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3FB-861F-4457-B411-70ECC1D66F44}" type="slidenum">
              <a:t>36</a:t>
            </a:fld>
          </a:p>
        </p:txBody>
      </p:sp>
    </p:spTree>
  </p:cSld>
  <p:transition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88" name="" descr=""/>
          <p:cNvPicPr/>
          <p:nvPr/>
        </p:nvPicPr>
        <p:blipFill>
          <a:blip r:embed="rId2"/>
          <a:srcRect l="0" t="0" r="0" b="16923"/>
          <a:stretch/>
        </p:blipFill>
        <p:spPr>
          <a:xfrm>
            <a:off x="1397160" y="1447920"/>
            <a:ext cx="6349680" cy="422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2133720" y="5943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small intest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258840"/>
            <a:ext cx="350532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elpful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AB3-FD86-48E7-83E2-E7DAB67711FC}" type="slidenum">
              <a:t>37</a:t>
            </a:fld>
          </a:p>
        </p:txBody>
      </p:sp>
    </p:spTree>
  </p:cSld>
  <p:transition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410080" y="3276720"/>
            <a:ext cx="1486080" cy="13428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3429000" y="2590920"/>
            <a:ext cx="1390680" cy="2009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590920" y="106200"/>
            <a:ext cx="4419360" cy="5814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ntrolling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2F4-CAD2-409A-8FAC-0C592AAD59C6}" type="slidenum">
              <a:t>38</a:t>
            </a:fld>
          </a:p>
        </p:txBody>
      </p:sp>
    </p:spTree>
  </p:cSld>
  <p:transition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29528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 their own food through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Bigger than most bacterial cell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only grow on water and surfaces that stay we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such as rivers, creeks and da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EFE-033B-41D3-A35E-D6365AA047A1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867280" y="2209680"/>
            <a:ext cx="3124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pir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spi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od-shaped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bacilli, bacillus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ou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o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14577" b="24338"/>
          <a:stretch/>
        </p:blipFill>
        <p:spPr>
          <a:xfrm>
            <a:off x="304920" y="1747800"/>
            <a:ext cx="4338360" cy="48052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057400" y="182520"/>
            <a:ext cx="4648320" cy="5814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3 Shapes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0206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teria are classified by shape into 3 grou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66720" y="2514600"/>
            <a:ext cx="1600200" cy="45720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580920" y="3581280"/>
            <a:ext cx="2210040" cy="83844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42840" y="4952880"/>
            <a:ext cx="3048120" cy="114300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diamond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AF6-6F84-4350-B1F2-5E7FEF7C38F5}" type="slidenum">
              <a:t>4</a:t>
            </a:fld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956600" y="152280"/>
            <a:ext cx="63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C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14300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can b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x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humans and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loo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ur when the bacteri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tiplies in great numbers a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m scum on the top of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714-BF3B-4A80-9E7F-56CFD931F0D9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066680" y="380880"/>
            <a:ext cx="74678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EXAMPLES OF BLUE-GREEN BACTERI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3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508200"/>
            <a:ext cx="3429000" cy="1978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 rot="5400000">
            <a:off x="-1478880" y="45244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ke Champl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06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Picture "/>
          <p:cNvPicPr/>
          <p:nvPr/>
        </p:nvPicPr>
        <p:blipFill>
          <a:blip r:embed="rId4"/>
          <a:srcRect l="0" t="16668" r="0" b="0"/>
          <a:stretch/>
        </p:blipFill>
        <p:spPr>
          <a:xfrm>
            <a:off x="5611680" y="2743200"/>
            <a:ext cx="30751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40C-3DFD-4D5D-BA2A-F037C146816C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1" name=""/>
          <p:cNvSpPr txBox="1"/>
          <p:nvPr/>
        </p:nvSpPr>
        <p:spPr>
          <a:xfrm>
            <a:off x="2033640" y="2463840"/>
            <a:ext cx="507672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ctures of Bacteri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367-552E-4FF4-9C40-8D40BC2A29D9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031840" y="254160"/>
            <a:ext cx="5080320" cy="634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A7E-69F4-406F-844A-F0CEE6642E80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666880" y="1047600"/>
            <a:ext cx="3810240" cy="4762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33520" y="2986560"/>
            <a:ext cx="426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Bacillus anthrac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rod, vegetative stage prokaryote (bacteriu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Number: 21185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FA7-508F-4064-B18E-9099D43B5DF9}" type="slidenum">
              <a:t>44</a:t>
            </a:fld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190600" y="1523880"/>
            <a:ext cx="4762800" cy="3810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26960" y="2164320"/>
            <a:ext cx="437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eisseria meningitid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coccus prokaryote (bacteriu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Number: 97214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87E-8830-4A52-BAAA-23EFD094E986}" type="slidenum">
              <a:t>45</a:t>
            </a:fld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031840" y="254160"/>
            <a:ext cx="5080320" cy="6349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4360" y="1676880"/>
            <a:ext cx="259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eptospira interroga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spiral shaped prokaryote (spirochet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1C3-9BC3-4CD9-B65E-F174CCB99D28}" type="slidenum">
              <a:t>46</a:t>
            </a:fld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438120" y="762120"/>
            <a:ext cx="672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ep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hybridmedicalanimation.com/pages/jjani_qt/strep_pneumo_q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3354480"/>
            <a:ext cx="6705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li movement animat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hybridmedicalanimation.com/pages/jjani_qt/ecoli_q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E0F-BEFA-4E22-906D-6ABCBB39A0A3}" type="slidenum">
              <a:t>47</a:t>
            </a:fld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17440" y="7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jj_e_coli" descr=""/>
          <p:cNvPicPr/>
          <p:nvPr/>
        </p:nvPicPr>
        <p:blipFill>
          <a:blip r:embed="rId2"/>
          <a:stretch/>
        </p:blipFill>
        <p:spPr>
          <a:xfrm>
            <a:off x="1971720" y="685800"/>
            <a:ext cx="4962600" cy="3970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33520" y="466416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oli movement animat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hybridmedicalanimation.com/pages/jjani_qt/ecoli_qt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9BFE-F268-4DE1-8853-13A66275DF45}" type="slidenum">
              <a:t>48</a:t>
            </a:fld>
          </a:p>
        </p:txBody>
      </p:sp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89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838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3332160" y="-7923240"/>
          <a:ext cx="365040" cy="227044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221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6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35280" y="3139920"/>
            <a:ext cx="90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V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-micro.msb.le.ac.uk/Video/HIV.m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F5F-FDD1-414C-8B36-6D76B1CEE305}" type="slidenum">
              <a:t>49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00400" y="182520"/>
            <a:ext cx="4648320" cy="5814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3 Shapes of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2280" y="76320"/>
            <a:ext cx="8458200" cy="2744280"/>
            <a:chOff x="152280" y="76320"/>
            <a:chExt cx="8458200" cy="2744280"/>
          </a:xfrm>
        </p:grpSpPr>
        <p:pic>
          <p:nvPicPr>
            <p:cNvPr id="74" name="" descr=""/>
            <p:cNvPicPr/>
            <p:nvPr/>
          </p:nvPicPr>
          <p:blipFill>
            <a:blip r:embed="rId2"/>
            <a:srcRect l="0" t="13198" r="12000" b="19601"/>
            <a:stretch/>
          </p:blipFill>
          <p:spPr>
            <a:xfrm>
              <a:off x="152280" y="76320"/>
              <a:ext cx="2362320" cy="22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343400" y="1751760"/>
              <a:ext cx="426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Comic Sans MS"/>
                </a:rPr>
                <a:t>Bacillus anthraci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– (bacillu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2280" y="2362320"/>
            <a:ext cx="8763120" cy="2561040"/>
            <a:chOff x="152280" y="2362320"/>
            <a:chExt cx="8763120" cy="2561040"/>
          </a:xfrm>
        </p:grpSpPr>
        <p:sp>
          <p:nvSpPr>
            <p:cNvPr id="77" name=""/>
            <p:cNvSpPr/>
            <p:nvPr/>
          </p:nvSpPr>
          <p:spPr>
            <a:xfrm>
              <a:off x="4343400" y="3367080"/>
              <a:ext cx="4572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Comic Sans MS"/>
                </a:rPr>
                <a:t>Neisseria meningitidi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(coccu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3"/>
            <a:srcRect l="26003" t="0" r="401" b="18001"/>
            <a:stretch/>
          </p:blipFill>
          <p:spPr>
            <a:xfrm>
              <a:off x="152280" y="2362320"/>
              <a:ext cx="2362320" cy="222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152280" y="4648320"/>
            <a:ext cx="8920440" cy="2160360"/>
            <a:chOff x="152280" y="4648320"/>
            <a:chExt cx="8920440" cy="2160360"/>
          </a:xfrm>
        </p:grpSpPr>
        <p:sp>
          <p:nvSpPr>
            <p:cNvPr id="80" name=""/>
            <p:cNvSpPr/>
            <p:nvPr/>
          </p:nvSpPr>
          <p:spPr>
            <a:xfrm>
              <a:off x="4267080" y="5334120"/>
              <a:ext cx="4805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Comic Sans MS"/>
                </a:rPr>
                <a:t>Leptospira interrogan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– (spirill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rcRect l="0" t="6797" r="0" b="20001"/>
            <a:stretch/>
          </p:blipFill>
          <p:spPr>
            <a:xfrm>
              <a:off x="152280" y="4648320"/>
              <a:ext cx="2362320" cy="216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C99-236E-4D68-A4C2-65BD6F4CC8FD}" type="slidenum">
              <a:t>5</a:t>
            </a:fld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3886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ucle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i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092480" y="1298520"/>
            <a:ext cx="4670640" cy="5105520"/>
            <a:chOff x="4092480" y="1298520"/>
            <a:chExt cx="4670640" cy="5105520"/>
          </a:xfrm>
        </p:grpSpPr>
        <p:pic>
          <p:nvPicPr>
            <p:cNvPr id="85" name="" descr=""/>
            <p:cNvPicPr/>
            <p:nvPr/>
          </p:nvPicPr>
          <p:blipFill>
            <a:blip r:embed="rId2"/>
            <a:srcRect l="0" t="4021" r="1920" b="2512"/>
            <a:stretch/>
          </p:blipFill>
          <p:spPr>
            <a:xfrm>
              <a:off x="4092480" y="1298520"/>
              <a:ext cx="4670640" cy="510552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4114800" y="380988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8F0-160E-41BB-9FEB-9D00EFFFAF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1828800"/>
            <a:ext cx="4876920" cy="3505320"/>
            <a:chOff x="1752480" y="1828800"/>
            <a:chExt cx="4876920" cy="3505320"/>
          </a:xfrm>
        </p:grpSpPr>
        <p:sp>
          <p:nvSpPr>
            <p:cNvPr id="90" name=""/>
            <p:cNvSpPr/>
            <p:nvPr/>
          </p:nvSpPr>
          <p:spPr>
            <a:xfrm>
              <a:off x="1752480" y="1828800"/>
              <a:ext cx="4876920" cy="3505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828800"/>
              <a:ext cx="327672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2480" y="1828800"/>
              <a:ext cx="335304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8954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keeps the cell from drying out and helps it stick to food or other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118-AC80-4E53-B2F0-8074CBFB16B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114800" y="1295280"/>
            <a:ext cx="467028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52480" y="1676520"/>
            <a:ext cx="3581640" cy="1828800"/>
            <a:chOff x="1752480" y="1676520"/>
            <a:chExt cx="3581640" cy="1828800"/>
          </a:xfrm>
        </p:grpSpPr>
        <p:sp>
          <p:nvSpPr>
            <p:cNvPr id="99" name=""/>
            <p:cNvSpPr/>
            <p:nvPr/>
          </p:nvSpPr>
          <p:spPr>
            <a:xfrm>
              <a:off x="1752480" y="1676520"/>
              <a:ext cx="3581640" cy="685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52480" y="1676520"/>
              <a:ext cx="3124440" cy="1828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4920" y="289548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Thick outer covering that maintains the overall shape of the bacterial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91E-B4FF-49DF-8E53-FCB0F49DDA7A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0" t="4021" r="1920" b="2512"/>
          <a:stretch/>
        </p:blipFill>
        <p:spPr>
          <a:xfrm>
            <a:off x="4092480" y="1298520"/>
            <a:ext cx="4670640" cy="51055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33520" y="990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82520"/>
            <a:ext cx="784872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Major Structures of a Bacteria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1922400"/>
            <a:ext cx="388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ell part where proteins a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Ribosomes give the cytoplasm of bacteria a granular appearance in electron micro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895480" y="1371600"/>
            <a:ext cx="3429000" cy="3124080"/>
            <a:chOff x="2895480" y="1371600"/>
            <a:chExt cx="3429000" cy="3124080"/>
          </a:xfrm>
        </p:grpSpPr>
        <p:sp>
          <p:nvSpPr>
            <p:cNvPr id="107" name=""/>
            <p:cNvSpPr/>
            <p:nvPr/>
          </p:nvSpPr>
          <p:spPr>
            <a:xfrm>
              <a:off x="2895480" y="1371600"/>
              <a:ext cx="259092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oval" w="med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1371600"/>
              <a:ext cx="3429000" cy="3124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oval" w="med"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1DF-E7ED-4962-ADB6-F1E25E16DCA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20:18:59Z</dcterms:created>
  <dc:creator>Valued Sony Customer</dc:creator>
  <dc:description/>
  <dc:language>en-US</dc:language>
  <cp:lastModifiedBy>llefkowitz</cp:lastModifiedBy>
  <dcterms:modified xsi:type="dcterms:W3CDTF">2007-12-03T16:04:11Z</dcterms:modified>
  <cp:revision>214</cp:revision>
  <dc:subject/>
  <dc:title>PowerPoint Presentation</dc:title>
</cp:coreProperties>
</file>